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974-3404-45C4-AB64-DFECA8A6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3D5-760F-47DD-9654-3AC169B0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488-7E19-4927-BF13-53AFEB80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B4C-444D-4249-864E-5C97A3EA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D8E-B56E-433F-826C-1DD2D707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4AB-F0E1-44C7-AD08-F6766312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4B8-7CAB-40BB-AC94-A3BBB815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F80-2825-45FA-9E10-B18A6BB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BED-670E-4D9B-89C6-AF285BC1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82E-ED79-4485-A7BB-56DCBC69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FB4-A124-4D40-B72A-3246DBC6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2B6-F64C-4FFF-8AAE-F65DA381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3693-3B7F-4576-BC71-AF792A8D2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00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onquistadors and pre Columbi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yan Flanagan and 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. the effects of European diseases, particularly smallpox, throughout the West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y controlled many other tribes and made them give them money and oth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Aztecs were located in central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Aztecs god Quetzalcoatl had   disappeared year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Aztecs and Montezuma, welcomed Cortez thinking he was their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Spanish destroyed the Aztecs city Tenochtitlan and made a new one( Tenochtitlan was located in the middle of the lak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7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ayas lived on the coast of Mexico on the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were all Polytheistic ( polytheistic means belief in more than one g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had slaves that could sometimes gain their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ir city was much harder for conquistadors to overth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 civilization was huge.  (over 20 million peopl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s did not favor gold and silver as much as the Spaniards d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s were easily taken over by Pizarro because of the Civil War going on (civil war is 2 or more groups fighting against their own countr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60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0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0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0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4952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4400" y="91368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2.hawaii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2f75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e Aztecs were shocked when they saw Cortez and his men riding horses because they have never seen them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rtez took over the leader, Montezuma and held him for ho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rtez was mistaken for the Aztec god Quetzacoat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arro took control of the Inca civ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 emperor was held captive by Pizar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arro tricked the Incas and did not return Atahualpa and killed the Incan empe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2371680" cy="2400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67040" y="243756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scovermachupicchu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Central and South America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Explorers and Conquistadors changed the majority of people that  no longer worship the gods( conquistador means they conqu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to believe in other gods, but now they are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now speak Spanish and they no longer speak there n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4:28Z</dcterms:created>
  <dc:creator>jklib</dc:creator>
  <dc:description/>
  <dc:language>en-US</dc:language>
  <cp:lastModifiedBy>jklib</cp:lastModifiedBy>
  <dcterms:modified xsi:type="dcterms:W3CDTF">2011-11-29T16:24:46Z</dcterms:modified>
  <cp:revision>9</cp:revision>
  <dc:subject/>
  <dc:title>Conquistadors and pre columbium civilization</dc:title>
</cp:coreProperties>
</file>